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</p:sldIdLst>
  <p:sldSz cx="9144000" cy="6858000"/>
  <p:notesSz cx="6858000" cy="9686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5AC7-4CC0-41E9-B847-EBE27FCDC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9DFD-D3CB-4F3B-B627-247C2A1BA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20BA-8E5A-475A-97C6-180D27006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A672-4A6E-4805-B87C-57E2618DC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98AB-82D8-4E9A-9A6D-F4F73404F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4831-DAC2-4406-9031-A62A141AF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BE8C-2DEA-4027-A709-85221D4D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EFDB-6F9C-4245-99F3-066700CA0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AFAA-C05A-464E-B7F9-7A004C54B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0F75-2760-4CA1-B985-BDDE9EA4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8BFB-D3B8-47F3-A9BF-680AA5F1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862C-C659-438B-93C4-EFD44A6A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BB588-BF27-43AE-9CC6-E0CA9CDA9E7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E00C-101A-45D4-A836-DFB79A77563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u criaste cada parte do meu corpo; tu me formaste na barriga da minha mãe. Tudo o que fazes é maravilhoso; eu sei disso muito bem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1510-F5C7-4AE7-9A0C-71613844B88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u viste quando os meus ossos estavam sendo feitos, quando eu estava sendo formado na barriga da minha mãe, crescendo ali em segredo, tu me viste antes de eu ter nascido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C0F1-1335-4091-8FDE-2D6DE7BCB62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s dias que me deste para viver foram todos escritos no teu livro quando ainda nenhum deles existia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337A-14E8-487C-8726-63B397785F5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Ó Deus, como é difícil entender os teus pensamentos! E eles são tantos! Se eu os contasse, seriam mais do que os grãos de areia. Quando acordo ainda estou contigo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3C33-27DF-4A52-8F6B-47428F880C8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D534-C57B-4111-8E63-FADD19EB254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orque nos fizeste, Senhor, para ti, o nosso coração anda sempre inquieto enquanto não se tranqüilize e descanse em ti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9AC4-545A-46AC-9BD9-74CC8B7C140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 casa de minha alma é estreita demais: alarga-a. Ela está em ruínas: restaura-a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9109-DD25-49A7-8ACF-A0EB0391CC2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arde te amei [aos 32 anos], ó tão antiga e tão nova beleza! Tarde demais te amei! Eis que habitavas dentro de mim, e do lado de fora eu te procurava! Comigo estavas, mas não eu contigo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16EC-AEAE-478D-944D-4CF24350697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u te amo; e, se é ainda pouco, faça que te ame com mais força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ED3C-2956-4CE5-87BD-056A1943770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Uma só coisa reconheço: é que tudo corre mal fora de ti, e não só à volta de mim, mas até em mim. Toda abundância que não é o meu Deus, é pra mim indigência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1565-3335-4A96-ACE2-30514228C3C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5BF2-0D24-48E9-B36A-88600706B1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u gostaria de abrir-me e manter-me a mim mesmo aberto diante de ti e para ti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E4A1-400E-4429-81D5-18F83706547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ntra, ó Deus, dentro de mim 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odo tal que eu chegue a s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ouco importante e só t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ermaneças em mim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80B2-29B5-4964-9BD1-B63DD8A8B88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erdi-me no terreno, e transformei-me a mim mesmo em obscuridade. Equivoquei-me, e lembrei-me de ti. Percebi sua voz atrás de mim, voz que me chamou a voltar, mas mal pude escutá-la por causa de ruído e da falta de paz. E agora aqui estou eu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8D71-9012-4F8C-9B4C-1EF12F1E851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1B06-CF7C-447A-B99E-A0F99FD0CCC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94920" y="169992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Um pouco de conhecimento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eus vale mais do que muit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hecimento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sobre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eu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77BC-F8D6-4912-ACB7-7D9576CB298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899640" y="1412640"/>
            <a:ext cx="770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eus tem a última palavra tanto na história do mundo como no destino de cada pessoa. O reino de Deus e sua justiça triunfarão, porque nem homens nem anjos serão capazes de impedir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BE5F-74B4-4981-91DD-0B0793A8DC2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755640" y="1700280"/>
            <a:ext cx="8137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 que Deus faz no tempo, ele planejou desde a eternidade. Tudo que ele planejou na eternidade, ele executa no tempo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9BD6-C16B-4C99-87CB-3DF28754F2C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23640" y="1197000"/>
            <a:ext cx="8351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or ser eterno, infinito e todo-poderoso, Deus nos tem em suas mãos. Mas nós, por sermos limitados em todos os sentidos, no espaço, no tempo, no conhecimento e no poder, nunca o temos em nossas mão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6418-70C5-4EAA-B216-E8920D754E0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39280" y="1268280"/>
            <a:ext cx="81378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Verdana"/>
              </a:rPr>
              <a:t>Deus não é um mero princípio cósmico, impessoal e indiferente. Pelo contrário, ele é uma Pessoa viva, que pensa, sente, age, aprova o bem, desaprova o mal, e está interessado em suas criaturas o tempo todo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DCB7-A719-41BB-B7DF-DA679C6A92F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84360" y="1484280"/>
            <a:ext cx="8208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É impressionante que Deus ame os pecadores, contudo esta é a verdade. Deus ama as criaturas que se tornaram não amadas e não amávei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76A4-FEFA-4841-A4BC-1CC5190FF36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Ó Senhor Deus, tu me examinas e me conheces. Sabes tudo o que eu faço e, de longe, conheces todos os meus pensamento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3324-11D6-4DFE-8783-DCB3786B184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116000" y="1844280"/>
            <a:ext cx="7570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eus salva não apenas para sua glória, mas também para sua alegria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4ADD-2F61-47F3-9D22-4E276A88E46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4247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s estrelas podem cair, mas as promessas de Deus permanecerão e serão cumprida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5CA6-82C0-4C4B-94CB-A14EBD7B104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11280" y="1557000"/>
            <a:ext cx="807552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eus é governador da história, guardião da justiça e salvador dos pecador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B97B-8865-4B38-A7A3-DFD93577C87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84000" y="1628280"/>
            <a:ext cx="8280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eus</a:t>
            </a:r>
            <a:r>
              <a:rPr b="1" lang="en-US" sz="3200" spc="-1" strike="noStrike">
                <a:solidFill>
                  <a:srgbClr val="339933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nunciou a si mesmo como o grande “Eu Sou”, aquele que é completa e consistentemente ele mesmo. Ele é, e por ele ser o que é, todas as outras coisas são como são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8BA5-8A63-4EAD-8E0D-605297F93FC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55280" y="1844280"/>
            <a:ext cx="793116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eus é autoexistente, soberano e completamente livre de qualquer limitação, ou dependência de qualquer coisa fora dele mesmo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3D8B-B9A8-43B8-9B56-70D45AEAD6D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0905-BC16-4A7D-9C21-3291B7228B1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“ </a:t>
            </a: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Senhor, nosso Deus, a tua grandeza é vista no mundo inteiro. O louvor dado a ti chega até o céu e é cantado pelas crianças” (Sl 8.1-2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9792-CC9B-4823-ADB4-5782AB75310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O céu anuncia a glória de Deus e nos mostra aquilo que as suas mãos fizeram. Cada dia fala dessa glória ao dia seguinte, e cada noite repete isso à outra noite” (Sl 19.1-2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C1C5-2438-4CF2-B60D-9679DA805DA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Vivemos num cosmo de dimensões que são difíceis de digerir. Nossa galáxia com centenas de bilhões de estrelas é apenas uma entre centenas de bilhões de outras” (Marcelo Gleiser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2EC0-DF1B-41AE-9116-DB7B54EC600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 terra é um pequeno planeta que integra o sistema solar, aquele conjunto formado pelo sol e seus planetas, satélites, asteróides, cometas e poeira cósmica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2194-297F-42D3-A664-1946B501C74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u me vês quando eu estou trabalhando e quando estou descansando; tu sabes tudo o que eu faço. Antes mesmo que eu fale, tu sabes o que eu vou dizer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E26A-981F-4023-A70F-C070F74A11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 sistema solar é somente uma parte minúscula de uma galáxia chamada Via Láctea, que compreende cerca de 100 bilhões de estrelas relativamente semelhantes ao Sol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49C0-9DC2-4135-B875-9E04FC4C6B6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Deve existir aproximadamente 100 bilhões de galáxias — mais ou menos 15 para cada terráqueo. O universo abriga ainda os longínquos quasar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8ACD-2367-4F57-B82D-51EF6A95BFB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m todos os tempos, em todos os lugares e em todas as etnias, entre os povos mais primitivos e os mais civilizados, atribui-se a um ser superior a criação desse imenso Universo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541A-0FEA-4A9B-BD11-348B197D808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sse ser supremo chama-se Deus nas três religiões monoteístas da história: judaísmo, cristianismo e islamismo (a metade da população mundial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333F-55E6-4C18-9081-25611B8493A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 palavra Criador, em maiúsculo, aparece várias vezes nas Escrituras, como, por exemplo: “No começo o Criador os fez homem e mulher” e “Lembra do seu Criador enquanto você ainda é jovem”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6205-9045-4518-AA2D-2A6769AB500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4E23-6EB9-4A63-B943-E4C9B878452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Deus amou o mundo tanto, que deu seu único Filho, para que todo aquele que nele crer não morra, mas tenha a vida eterna” (Jo 3.16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C05F-C5BD-4526-9A27-C48CD95B21D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A misericórdia de Deus é muito grande, e o seu amor por nós é tanto, que, quando estávamos espiritualmente mortos por causa da nossa desobediência, ele nos trouxe a vida que temos em união com Cristo” (Ef 2.4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7C8F-B6D3-477B-AF7B-D480F69C8E0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Não fomos nós que amamos a Deus, mas foi ele que nos amou e mandou o seu Filho para que, por meio dele, os nossos pecados fossem perdoados” (1 Jo 4.10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A971-727F-4A2D-88A0-71C162FA3920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Deus nem mesmo deixou de entregar o próprio Filho, mas o ofereceu por todos nós! Se ele nos deu o seu Filho, será que não nos dará também todas as coisas?” (Rm 8.32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CAC9-D856-40D1-B666-236FD7B83B93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stás em volta de mim, por todos os lados, e me proteges com o teu poder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D03C-5182-4D15-8E36-298F362ABC5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Deus prova o seu próprio amor para conosco pelo fato de ter Cristo morrido por nós, sendo nós ainda pecadores” (Rm 5.8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5403-1D1D-430C-B6EB-4331C0D33BE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em não ama não conhece a Deus pois Deus é amor” (1Jo 4.8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89A0-BA8E-4A8D-95F1-354A9A105FFC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A cruz é a prova extrema da realidade e da imensidão de Deus” (J. I. Packer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F54B-0E05-46F4-972B-01CA461A561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CCCC-2BF7-44BC-BED0-F2BA1AC38795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Assim como o corço deseja as águas do ribeirão, assim também eu quero estar na tua presença, ó Deus. Eu tenho sede de ti, o Deus vivo!” (Sl 42. 1-2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B332-A58C-4598-BF1C-E7DD94DB5C54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“ </a:t>
            </a: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Todo o meu ser deseja estar contigo; eu tenho sede de ti como uma terra cansada, seca e sem água.” (Sl 63.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28DE-2489-4A39-8699-EE3FB4C407E0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É o coração que sente Deus, e não a razão” (Blaise Pascal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B827-99E9-4EFA-914A-3154BD10C1AA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Deus projetou a máquina humana para funcionar à base dele mesmo. Ele é o combustível do qual os nossos espíritos devem se alimentar. Não há nenhum outro. Deus não pode nos dar felicidade e paz fora de si mesmo.”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C.S. Lewi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6D16-84A9-4FD0-BA07-C0FF7E5180EA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etenta anos é pouco tempo para a difícil tarefa de desligar as almas do céu e construir uma ligação sólida para com a terra. O seu apetite pelo céu é tão inveterado que é preciso fazê-los crer que a terra possa ser transformada em céu algum dia” (C.S. Lewi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58F7-3C7E-4562-84EC-323D3EE7564D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EADB-A929-43EC-8BF7-C5A7A98B79FF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u não consigo entender como tu me conheces tão bem; o teu conhecimento é profundo demais para mi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4F9E-6866-45D4-8C61-420CDF007F3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79280" y="2421000"/>
            <a:ext cx="874872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Deus é absoluto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não tem limites, é superior a tudo e 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odos, complet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4B3F-2C55-40C5-A80B-9D5E737577FF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24000" y="1989000"/>
            <a:ext cx="86407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Deus é amor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não tem má vontade nem qualqu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esíduo de malda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D1E7-6D71-4048-8597-5CAB8234999F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50920" y="2133360"/>
            <a:ext cx="864216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Verdana"/>
              </a:rPr>
              <a:t>Deus é eterno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não tem princípio nem fim, nã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nasce e não morre, é o “Eu So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Quem Sou” (Êx 3.14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F316-A2AA-4AA2-9594-C6EFFFE24432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07640" y="1915920"/>
            <a:ext cx="889308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Deus é imenso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não tem medida alguma, é impossí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e ser medid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F7CC-6490-4BDB-B819-B1AB5D3541DC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79280" y="2349360"/>
            <a:ext cx="87854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Deus é imutável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não tem necessidade alguma 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voltar atrás, de se ajustar a qualqu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época e circunstânc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E845-964A-4A10-9363-1B7BD07ABD5F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50560" y="2060280"/>
            <a:ext cx="871380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Verdana"/>
              </a:rPr>
              <a:t>Deus</a:t>
            </a:r>
            <a:r>
              <a:rPr b="1" i="1" lang="en-US" sz="4400" spc="-1" strike="noStrike">
                <a:solidFill>
                  <a:srgbClr val="339933"/>
                </a:solidFill>
                <a:latin typeface="Verdana"/>
              </a:rPr>
              <a:t> </a:t>
            </a:r>
            <a:r>
              <a:rPr b="1" i="1" lang="en-US" sz="4400" spc="-1" strike="noStrike">
                <a:solidFill>
                  <a:srgbClr val="ffffff"/>
                </a:solidFill>
                <a:latin typeface="Verdana"/>
              </a:rPr>
              <a:t>é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Verdana"/>
              </a:rPr>
              <a:t>Incompreensíve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não tem explicação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lguma, está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ora da razão human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2031-8250-468C-9E42-1353C056D1CA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78920" y="2060280"/>
            <a:ext cx="828036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Deus é infinito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não tem fim, n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ntervalo ou interrupçã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e existênc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9717-B750-45B1-9449-9551749C69AF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8920" y="2349000"/>
            <a:ext cx="867564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Deus é invisível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não tem visibilidade, não pode s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nxergado pelo sentido da visão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DA91-CDAF-45CD-A404-C827A23A244B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250920" y="1989000"/>
            <a:ext cx="864216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Deus é justo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não tem favoritismo, implicância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arcialidade, protecionism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EF39-BA51-427B-A045-698EFA6055AF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250560" y="1916280"/>
            <a:ext cx="87138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Deus é livre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não tem alguém a quem precisa da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atisfações ou explicar-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0E62-0572-412F-8E36-2B838D802F43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onde posso ir a fim de escapar do teu Espírito? Para onde posso fugir da tua presença? Se eu subir ao céu, tu lá estás; se descer ao mundo dos mortos, lá estás també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197F-5BA0-4B0E-8556-083356B73AA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250560" y="2204640"/>
            <a:ext cx="87138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Deus</a:t>
            </a:r>
            <a:r>
              <a:rPr b="1" i="1" lang="en-US" sz="4000" spc="-1" strike="noStrike">
                <a:solidFill>
                  <a:srgbClr val="339933"/>
                </a:solidFill>
                <a:latin typeface="Verdana"/>
              </a:rPr>
              <a:t> </a:t>
            </a: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é onipotente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não tem limitação de autoridade 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oder, no espaço e no temp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BB03-2D98-4A99-964A-67D16F2A34F9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4920" y="1916280"/>
            <a:ext cx="896472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Deus é onipresente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não tem necessidade de passar de u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ugar para outr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3242-FB00-4839-BDE5-8D242756955B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250560" y="1844640"/>
            <a:ext cx="8497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Deus é onisciente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não tem carência de informação o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e novos conheciment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9555-0BBC-4AB6-BB42-FB80D6795AA3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50920" y="1989000"/>
            <a:ext cx="831672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Deus é sant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não tem mancha algum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BC19-BF0B-456B-9D89-BCD12C1398DA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250560" y="1844640"/>
            <a:ext cx="8497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Deus</a:t>
            </a:r>
            <a:r>
              <a:rPr b="1" i="1" lang="en-US" sz="4000" spc="-1" strike="noStrike">
                <a:solidFill>
                  <a:srgbClr val="339933"/>
                </a:solidFill>
                <a:latin typeface="Verdana"/>
              </a:rPr>
              <a:t> </a:t>
            </a: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é zelos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não perdoa o pecado senão pel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ruz de Crist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41B9-79AC-4951-BCFA-820E7A245E95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9605-AF04-4A8C-BDD7-5097EAF14C29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Verdana"/>
              </a:rPr>
              <a:t>Vamos crer nele cada vez mais:</a:t>
            </a: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 “Pela fé entendemos que o universo foi formado pela palavra de Deus, de modo que aquilo que se vê não foi feito do que é visível” (Hb 11.3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588F-93BC-49DA-8F17-A359ABD6BCBA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Vamos conhecê-lo cada vez mais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: “Conheçamos e prossigamos em conhecer ao Senhor” (Os 6.3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671A-F462-4670-84D3-56B66FB4E1B2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Vamos buscá-lo cada vez mais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: “Busquem o Senhor enquanto é possível achá-lo; clamem por ele enquanto está perto”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BA83-6DDB-4FDC-9876-7BD1B746E7D6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Verdana"/>
              </a:rPr>
              <a:t>Vamos agradá-lo cada vez mais</a:t>
            </a: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: “As pessoas que vivem de acordo com a natureza humana não podem agradar a Deus” (Rm 8.8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CA87-C36B-4BD1-94D0-90AFD9884474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e eu voar para o Oriente ou viver nos lugares mais distantes do Ocidente, ainda ali a tua mão me guia, ainda ali tu me ajuda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C6EA-58C7-4EAA-B8F6-437C5B2D0F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Verdana"/>
              </a:rPr>
              <a:t>Vamos nos aproximar dele cada vez mais</a:t>
            </a: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: “Temos um grande sacerdote sobre a casa de Deus. Sendo assim, aproximemo-nos de Deus com um coração sincero e com plena convicção de fé” (Hb 10.21-22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ED5D-0BA1-42B0-8030-ABB2BE105E89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C. S. Lewis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: “[Deus] é uma grande fonte de energia e beleza que jorra a partir do centro da realidade. Se você estiver perto dessa fonte, a névoa úmida vai atingi-lo e o molhará; se ficar longe, se manterá seco”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F6F0-1523-4863-9E71-710C13B3A7BC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George Whitefield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; “Deus me ajude a começar a começar!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629B-3A1C-4F0F-9135-1C367A7B545E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79280" y="2276280"/>
            <a:ext cx="896472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Esta palestra está disponível no site: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www.ultimato.com.br/blog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F2B0-3108-4072-AA63-B13AA3480726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u poderia pedir que a escuridão me escondesse e que em volta de mim a luz virasse noite; mas isso não adiantaria nada porque para ti a escuridão não é escura e a noite é tão clara como o dia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9376-278E-4BC0-9823-BCF88E290E4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5T19:04:41Z</dcterms:created>
  <dc:creator>ADM</dc:creator>
  <dc:description/>
  <dc:language>en-US</dc:language>
  <cp:lastModifiedBy>ADM</cp:lastModifiedBy>
  <dcterms:modified xsi:type="dcterms:W3CDTF">2009-10-13T15:29:53Z</dcterms:modified>
  <cp:revision>104</cp:revision>
  <dc:subject/>
  <dc:title>Slide 1</dc:title>
</cp:coreProperties>
</file>